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0941-D5B8-4689-9BB5-6D71620A3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5B43-C9C4-4A3A-8DAA-D0653356A1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933720" y="4427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时间规划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顺序规划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例子规划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zh-CN" sz="1400" spc="-1" strike="noStrike">
                <a:solidFill>
                  <a:srgbClr val="009999"/>
                </a:solidFill>
                <a:latin typeface="Arial"/>
              </a:rPr>
              <a:t>其他技巧规划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时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讲授顺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采用例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它技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um = 0xF3^0x08^0x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时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讲授顺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采用例子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它技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610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6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10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6"/>
          <p:cNvSpPr/>
          <p:nvPr/>
        </p:nvSpPr>
        <p:spPr>
          <a:xfrm>
            <a:off x="3635280" y="6308640"/>
            <a:ext cx="1816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Page </a:t>
            </a:r>
            <a:fld id="{35AF09E5-A734-42D2-9925-860FA3343E0D}" type="slidenum">
              <a:rPr b="1" i="1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9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9640" y="1828800"/>
            <a:ext cx="7012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TP Communication Protocol</a:t>
            </a:r>
            <a:endParaRPr b="1" lang="en-US" sz="5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03280" y="4292640"/>
            <a:ext cx="4120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e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hong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Op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2060640"/>
          <a:ext cx="6337080" cy="304560"/>
        </p:xfrm>
        <a:graphic>
          <a:graphicData uri="http://schemas.openxmlformats.org/drawingml/2006/table">
            <a:tbl>
              <a:tblPr/>
              <a:tblGrid>
                <a:gridCol w="647640"/>
                <a:gridCol w="1800360"/>
                <a:gridCol w="431640"/>
                <a:gridCol w="194472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971640" y="2490840"/>
          <a:ext cx="6299280" cy="304920"/>
        </p:xfrm>
        <a:graphic>
          <a:graphicData uri="http://schemas.openxmlformats.org/drawingml/2006/table">
            <a:tbl>
              <a:tblPr/>
              <a:tblGrid>
                <a:gridCol w="647640"/>
                <a:gridCol w="1800360"/>
                <a:gridCol w="431640"/>
                <a:gridCol w="1944720"/>
                <a:gridCol w="1474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*PointNum+2)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77882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gister Read/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Used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2720" y="2637000"/>
          <a:ext cx="7601040" cy="3487680"/>
        </p:xfrm>
        <a:graphic>
          <a:graphicData uri="http://schemas.openxmlformats.org/drawingml/2006/table">
            <a:tbl>
              <a:tblPr/>
              <a:tblGrid>
                <a:gridCol w="982800"/>
                <a:gridCol w="1350720"/>
                <a:gridCol w="2249640"/>
                <a:gridCol w="3017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 Addres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Nam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8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PERIOD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form 3to14,default 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PMOD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activ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 monito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 hibernate(deep sleep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FIRMWARE_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LIB_VERSION_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LIB_VERSION_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Op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)Register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44720" y="2421000"/>
          <a:ext cx="5400360" cy="360360"/>
        </p:xfrm>
        <a:graphic>
          <a:graphicData uri="http://schemas.openxmlformats.org/drawingml/2006/table">
            <a:tbl>
              <a:tblPr/>
              <a:tblGrid>
                <a:gridCol w="579240"/>
                <a:gridCol w="1533600"/>
                <a:gridCol w="307800"/>
                <a:gridCol w="1690920"/>
                <a:gridCol w="614160"/>
                <a:gridCol w="67464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0"/>
          <p:cNvSpPr/>
          <p:nvPr/>
        </p:nvSpPr>
        <p:spPr>
          <a:xfrm>
            <a:off x="539640" y="30700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b)Register R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44720" y="3573360"/>
          <a:ext cx="6337080" cy="304920"/>
        </p:xfrm>
        <a:graphic>
          <a:graphicData uri="http://schemas.openxmlformats.org/drawingml/2006/table">
            <a:tbl>
              <a:tblPr/>
              <a:tblGrid>
                <a:gridCol w="682560"/>
                <a:gridCol w="1797120"/>
                <a:gridCol w="360360"/>
                <a:gridCol w="198432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044720" y="4005360"/>
          <a:ext cx="6337080" cy="304560"/>
        </p:xfrm>
        <a:graphic>
          <a:graphicData uri="http://schemas.openxmlformats.org/drawingml/2006/table">
            <a:tbl>
              <a:tblPr/>
              <a:tblGrid>
                <a:gridCol w="682560"/>
                <a:gridCol w="1797120"/>
                <a:gridCol w="360360"/>
                <a:gridCol w="1984320"/>
                <a:gridCol w="151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y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canning: write register 0x00 to 0xc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scanning complete: read register 0x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ineNum to register 0x01 then re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47640" y="2349360"/>
          <a:ext cx="6048720" cy="304920"/>
        </p:xfrm>
        <a:graphic>
          <a:graphicData uri="http://schemas.openxmlformats.org/drawingml/2006/table">
            <a:tbl>
              <a:tblPr/>
              <a:tblGrid>
                <a:gridCol w="648000"/>
                <a:gridCol w="1512720"/>
                <a:gridCol w="358920"/>
                <a:gridCol w="1657080"/>
                <a:gridCol w="1079640"/>
                <a:gridCol w="7923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c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47640" y="3213000"/>
          <a:ext cx="5256360" cy="304920"/>
        </p:xfrm>
        <a:graphic>
          <a:graphicData uri="http://schemas.openxmlformats.org/drawingml/2006/table">
            <a:tbl>
              <a:tblPr/>
              <a:tblGrid>
                <a:gridCol w="673200"/>
                <a:gridCol w="1487520"/>
                <a:gridCol w="358920"/>
                <a:gridCol w="165708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547640" y="4508640"/>
          <a:ext cx="6048720" cy="304560"/>
        </p:xfrm>
        <a:graphic>
          <a:graphicData uri="http://schemas.openxmlformats.org/drawingml/2006/table">
            <a:tbl>
              <a:tblPr/>
              <a:tblGrid>
                <a:gridCol w="673200"/>
                <a:gridCol w="1487520"/>
                <a:gridCol w="358920"/>
                <a:gridCol w="1657080"/>
                <a:gridCol w="1079640"/>
                <a:gridCol w="792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 Num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547640" y="4925880"/>
          <a:ext cx="5256360" cy="304920"/>
        </p:xfrm>
        <a:graphic>
          <a:graphicData uri="http://schemas.openxmlformats.org/drawingml/2006/table">
            <a:tbl>
              <a:tblPr/>
              <a:tblGrid>
                <a:gridCol w="673200"/>
                <a:gridCol w="1487520"/>
                <a:gridCol w="358920"/>
                <a:gridCol w="165708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47640" y="5357880"/>
          <a:ext cx="5256360" cy="304560"/>
        </p:xfrm>
        <a:graphic>
          <a:graphicData uri="http://schemas.openxmlformats.org/drawingml/2006/table">
            <a:tbl>
              <a:tblPr/>
              <a:tblGrid>
                <a:gridCol w="673200"/>
                <a:gridCol w="1487520"/>
                <a:gridCol w="358920"/>
                <a:gridCol w="165708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*RxNum)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542960" y="3630600"/>
          <a:ext cx="5261040" cy="304920"/>
        </p:xfrm>
        <a:graphic>
          <a:graphicData uri="http://schemas.openxmlformats.org/drawingml/2006/table">
            <a:tbl>
              <a:tblPr/>
              <a:tblGrid>
                <a:gridCol w="652680"/>
                <a:gridCol w="1512720"/>
                <a:gridCol w="358920"/>
                <a:gridCol w="1657080"/>
                <a:gridCol w="1079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y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43160"/>
            <a:ext cx="78598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ordinate Data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ming to get touch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044720" y="2567160"/>
            <a:ext cx="6624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42800"/>
            <a:ext cx="66358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Coordinate data registe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72960" y="2060640"/>
          <a:ext cx="7948800" cy="1436760"/>
        </p:xfrm>
        <a:graphic>
          <a:graphicData uri="http://schemas.openxmlformats.org/drawingml/2006/table">
            <a:tbl>
              <a:tblPr/>
              <a:tblGrid>
                <a:gridCol w="792360"/>
                <a:gridCol w="933480"/>
                <a:gridCol w="822240"/>
                <a:gridCol w="735120"/>
                <a:gridCol w="988920"/>
                <a:gridCol w="395280"/>
                <a:gridCol w="230040"/>
                <a:gridCol w="281160"/>
                <a:gridCol w="257040"/>
                <a:gridCol w="255600"/>
                <a:gridCol w="255600"/>
                <a:gridCol w="255600"/>
                <a:gridCol w="255600"/>
                <a:gridCol w="260280"/>
                <a:gridCol w="243000"/>
                <a:gridCol w="98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ke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ke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t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ur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e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AAA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1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343160"/>
            <a:ext cx="82915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EST_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828720" y="1917720"/>
            <a:ext cx="7416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D_STATU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UCH EV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044720" y="2062080"/>
            <a:ext cx="6912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Op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1917720"/>
          <a:ext cx="4680000" cy="30492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936360"/>
                <a:gridCol w="1295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971640" y="2349360"/>
          <a:ext cx="4680000" cy="30492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936360"/>
                <a:gridCol w="1295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77882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egister Read/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Used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12720" y="2637000"/>
          <a:ext cx="7601040" cy="3487680"/>
        </p:xfrm>
        <a:graphic>
          <a:graphicData uri="http://schemas.openxmlformats.org/drawingml/2006/table">
            <a:tbl>
              <a:tblPr/>
              <a:tblGrid>
                <a:gridCol w="982800"/>
                <a:gridCol w="1350720"/>
                <a:gridCol w="2249640"/>
                <a:gridCol w="3017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 Addres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er Nam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0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PERIOD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e form 3to14,default 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3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PMOD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activ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 monitor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 hibernate(deep sleep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3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FIRMWARE_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3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LIB_VERSION_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x3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_G_ LIB_VERSION_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: x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CTPM Interf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IC Standar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ordinate Dat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TS 26 Byt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I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/SPI) Protoc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ordinate Data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gister read/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Update CTPM Firm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Oper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)Register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9640" y="30700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b)Register R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1640" y="2421000"/>
          <a:ext cx="7346880" cy="30456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793440"/>
                <a:gridCol w="1584360"/>
                <a:gridCol w="647640"/>
                <a:gridCol w="1224000"/>
                <a:gridCol w="649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sum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71640" y="3502080"/>
          <a:ext cx="6265800" cy="30492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795240"/>
                <a:gridCol w="223200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 Address+0x4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71640" y="3924360"/>
          <a:ext cx="4680000" cy="304920"/>
        </p:xfrm>
        <a:graphic>
          <a:graphicData uri="http://schemas.openxmlformats.org/drawingml/2006/table">
            <a:tbl>
              <a:tblPr/>
              <a:tblGrid>
                <a:gridCol w="674640"/>
                <a:gridCol w="1413000"/>
                <a:gridCol w="360360"/>
                <a:gridCol w="792000"/>
                <a:gridCol w="14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FTS 26 Bytes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(IIC/SPI)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91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Raw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canning write register 0x08 to 0x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for scanning complete: read register 0x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ineNum to register 0x0c then re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332000" y="2349360"/>
          <a:ext cx="6696000" cy="304920"/>
        </p:xfrm>
        <a:graphic>
          <a:graphicData uri="http://schemas.openxmlformats.org/drawingml/2006/table">
            <a:tbl>
              <a:tblPr/>
              <a:tblGrid>
                <a:gridCol w="641160"/>
                <a:gridCol w="1519200"/>
                <a:gridCol w="358920"/>
                <a:gridCol w="1008000"/>
                <a:gridCol w="720720"/>
                <a:gridCol w="647640"/>
                <a:gridCol w="1081080"/>
                <a:gridCol w="7192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sum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332000" y="3197160"/>
          <a:ext cx="5832360" cy="304920"/>
        </p:xfrm>
        <a:graphic>
          <a:graphicData uri="http://schemas.openxmlformats.org/drawingml/2006/table">
            <a:tbl>
              <a:tblPr/>
              <a:tblGrid>
                <a:gridCol w="793800"/>
                <a:gridCol w="1366560"/>
                <a:gridCol w="358920"/>
                <a:gridCol w="1008000"/>
                <a:gridCol w="1368360"/>
                <a:gridCol w="936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+0x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32000" y="3630600"/>
          <a:ext cx="4895640" cy="304920"/>
        </p:xfrm>
        <a:graphic>
          <a:graphicData uri="http://schemas.openxmlformats.org/drawingml/2006/table">
            <a:tbl>
              <a:tblPr/>
              <a:tblGrid>
                <a:gridCol w="750960"/>
                <a:gridCol w="1409400"/>
                <a:gridCol w="358920"/>
                <a:gridCol w="1008000"/>
                <a:gridCol w="13683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332000" y="4508640"/>
          <a:ext cx="5832360" cy="304560"/>
        </p:xfrm>
        <a:graphic>
          <a:graphicData uri="http://schemas.openxmlformats.org/drawingml/2006/table">
            <a:tbl>
              <a:tblPr/>
              <a:tblGrid>
                <a:gridCol w="793800"/>
                <a:gridCol w="1366560"/>
                <a:gridCol w="358920"/>
                <a:gridCol w="720720"/>
                <a:gridCol w="826920"/>
                <a:gridCol w="1044720"/>
                <a:gridCol w="720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F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C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Num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32000" y="4941720"/>
          <a:ext cx="5832360" cy="304920"/>
        </p:xfrm>
        <a:graphic>
          <a:graphicData uri="http://schemas.openxmlformats.org/drawingml/2006/table">
            <a:tbl>
              <a:tblPr/>
              <a:tblGrid>
                <a:gridCol w="793800"/>
                <a:gridCol w="1366560"/>
                <a:gridCol w="358920"/>
                <a:gridCol w="2592360"/>
                <a:gridCol w="7207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 Addr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*RxNum)+1 Byt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5x06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lash lay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4360" y="4638600"/>
          <a:ext cx="7129440" cy="1598760"/>
        </p:xfrm>
        <a:graphic>
          <a:graphicData uri="http://schemas.openxmlformats.org/drawingml/2006/table">
            <a:tbl>
              <a:tblPr/>
              <a:tblGrid>
                <a:gridCol w="712800"/>
                <a:gridCol w="712800"/>
                <a:gridCol w="712440"/>
                <a:gridCol w="712800"/>
                <a:gridCol w="712800"/>
                <a:gridCol w="712800"/>
                <a:gridCol w="712800"/>
                <a:gridCol w="712800"/>
                <a:gridCol w="714600"/>
                <a:gridCol w="712800"/>
              </a:tblGrid>
              <a:tr h="298440">
                <a:tc gridSpan="10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 frame structure: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a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b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c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d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e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fff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780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78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78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78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52600"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W Length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W Length negat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C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C negat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_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ve_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 negat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voltag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voltage negate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 gridSpan="10">
                  <a:txBody>
                    <a:bodyPr lIns="36000" rIns="36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C: shows F/W all data Xor checksum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O voltage: 0x00=3.3V; 0x01=1.8V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556000" y="1484280"/>
          <a:ext cx="3024000" cy="3024360"/>
        </p:xfrm>
        <a:graphic>
          <a:graphicData uri="http://schemas.openxmlformats.org/drawingml/2006/table">
            <a:tbl>
              <a:tblPr/>
              <a:tblGrid>
                <a:gridCol w="2160360"/>
                <a:gridCol w="863640"/>
              </a:tblGrid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grade (1924Bytes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(124Bytes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_1(26624Bytes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_0 (2048Bytes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K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2530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PM upgrade  flowch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群組 81"/>
          <p:cNvGrpSpPr/>
          <p:nvPr/>
        </p:nvGrpSpPr>
        <p:grpSpPr>
          <a:xfrm>
            <a:off x="2124000" y="1341360"/>
            <a:ext cx="5184720" cy="4896000"/>
            <a:chOff x="2124000" y="1341360"/>
            <a:chExt cx="5184720" cy="4896000"/>
          </a:xfrm>
        </p:grpSpPr>
        <p:sp>
          <p:nvSpPr>
            <p:cNvPr id="197" name="圓角矩形 12"/>
            <p:cNvSpPr/>
            <p:nvPr/>
          </p:nvSpPr>
          <p:spPr>
            <a:xfrm>
              <a:off x="3753000" y="1341360"/>
              <a:ext cx="1296000" cy="467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wer On/Rese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矩形 13"/>
            <p:cNvSpPr/>
            <p:nvPr/>
          </p:nvSpPr>
          <p:spPr>
            <a:xfrm>
              <a:off x="3789000" y="2030040"/>
              <a:ext cx="1260000" cy="35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W self check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菱形 14"/>
            <p:cNvSpPr/>
            <p:nvPr/>
          </p:nvSpPr>
          <p:spPr>
            <a:xfrm>
              <a:off x="3739320" y="2587680"/>
              <a:ext cx="1368000" cy="3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rect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肘形接點 16"/>
            <p:cNvCxnSpPr/>
            <p:nvPr/>
          </p:nvCxnSpPr>
          <p:spPr>
            <a:xfrm flipH="1" flipV="1">
              <a:off x="4428000" y="3810960"/>
              <a:ext cx="720720" cy="1620360"/>
            </a:xfrm>
            <a:prstGeom prst="bentConnector3">
              <a:avLst>
                <a:gd name="adj1" fmla="val -71264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201" name="矩形 17"/>
            <p:cNvSpPr/>
            <p:nvPr/>
          </p:nvSpPr>
          <p:spPr>
            <a:xfrm>
              <a:off x="3780000" y="3213360"/>
              <a:ext cx="1260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30ms counting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矩形 18"/>
            <p:cNvSpPr/>
            <p:nvPr/>
          </p:nvSpPr>
          <p:spPr>
            <a:xfrm>
              <a:off x="3780000" y="3933360"/>
              <a:ext cx="1260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eive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x55, 0xaa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矩形 19"/>
            <p:cNvSpPr/>
            <p:nvPr/>
          </p:nvSpPr>
          <p:spPr>
            <a:xfrm>
              <a:off x="3780000" y="5877720"/>
              <a:ext cx="1260000" cy="35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l Star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矩形 20"/>
            <p:cNvSpPr/>
            <p:nvPr/>
          </p:nvSpPr>
          <p:spPr>
            <a:xfrm>
              <a:off x="2124000" y="5877720"/>
              <a:ext cx="1260000" cy="35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 Upgrad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矩形 21"/>
            <p:cNvSpPr/>
            <p:nvPr/>
          </p:nvSpPr>
          <p:spPr>
            <a:xfrm>
              <a:off x="5220360" y="5157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6" name="直線單箭頭接點 24"/>
            <p:cNvCxnSpPr/>
            <p:nvPr/>
          </p:nvCxnSpPr>
          <p:spPr>
            <a:xfrm>
              <a:off x="4428000" y="1845000"/>
              <a:ext cx="108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直線單箭頭接點 26"/>
            <p:cNvCxnSpPr/>
            <p:nvPr/>
          </p:nvCxnSpPr>
          <p:spPr>
            <a:xfrm>
              <a:off x="4428000" y="2385000"/>
              <a:ext cx="1080" cy="18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直線單箭頭接點 27"/>
            <p:cNvCxnSpPr/>
            <p:nvPr/>
          </p:nvCxnSpPr>
          <p:spPr>
            <a:xfrm>
              <a:off x="4428000" y="299700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直線單箭頭接點 28"/>
            <p:cNvCxnSpPr/>
            <p:nvPr/>
          </p:nvCxnSpPr>
          <p:spPr>
            <a:xfrm>
              <a:off x="4428000" y="3645000"/>
              <a:ext cx="1080" cy="28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直線單箭頭接點 29"/>
            <p:cNvCxnSpPr/>
            <p:nvPr/>
          </p:nvCxnSpPr>
          <p:spPr>
            <a:xfrm>
              <a:off x="4455360" y="43873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1" name="菱形 30"/>
            <p:cNvSpPr/>
            <p:nvPr/>
          </p:nvSpPr>
          <p:spPr>
            <a:xfrm>
              <a:off x="3780000" y="4581360"/>
              <a:ext cx="1368000" cy="3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rect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菱形 31"/>
            <p:cNvSpPr/>
            <p:nvPr/>
          </p:nvSpPr>
          <p:spPr>
            <a:xfrm>
              <a:off x="3780000" y="5229360"/>
              <a:ext cx="1368000" cy="39564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up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3" name="直線單箭頭接點 32"/>
            <p:cNvCxnSpPr/>
            <p:nvPr/>
          </p:nvCxnSpPr>
          <p:spPr>
            <a:xfrm>
              <a:off x="4455360" y="4999320"/>
              <a:ext cx="1080" cy="21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直線圖說文字 2 (加上強調線) 33"/>
            <p:cNvSpPr/>
            <p:nvPr/>
          </p:nvSpPr>
          <p:spPr>
            <a:xfrm>
              <a:off x="5724360" y="2205000"/>
              <a:ext cx="1584360" cy="431640"/>
            </a:xfr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nd about 20m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5" name="直線單箭頭接點 57"/>
            <p:cNvCxnSpPr/>
            <p:nvPr/>
          </p:nvCxnSpPr>
          <p:spPr>
            <a:xfrm>
              <a:off x="4455360" y="5625000"/>
              <a:ext cx="1080" cy="25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矩形 65"/>
            <p:cNvSpPr/>
            <p:nvPr/>
          </p:nvSpPr>
          <p:spPr>
            <a:xfrm>
              <a:off x="4500360" y="288072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矩形 66"/>
            <p:cNvSpPr/>
            <p:nvPr/>
          </p:nvSpPr>
          <p:spPr>
            <a:xfrm>
              <a:off x="4500360" y="5517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矩形 67"/>
            <p:cNvSpPr/>
            <p:nvPr/>
          </p:nvSpPr>
          <p:spPr>
            <a:xfrm>
              <a:off x="3420000" y="4437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矩形 68"/>
            <p:cNvSpPr/>
            <p:nvPr/>
          </p:nvSpPr>
          <p:spPr>
            <a:xfrm>
              <a:off x="4500360" y="4941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矩形 69"/>
            <p:cNvSpPr/>
            <p:nvPr/>
          </p:nvSpPr>
          <p:spPr>
            <a:xfrm>
              <a:off x="3348000" y="2493360"/>
              <a:ext cx="36000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直線接點 71"/>
            <p:cNvSpPr/>
            <p:nvPr/>
          </p:nvSpPr>
          <p:spPr>
            <a:xfrm flipH="1">
              <a:off x="2700000" y="2781360"/>
              <a:ext cx="10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2" name="直線單箭頭接點 75"/>
            <p:cNvCxnSpPr/>
            <p:nvPr/>
          </p:nvCxnSpPr>
          <p:spPr>
            <a:xfrm>
              <a:off x="2699640" y="2781000"/>
              <a:ext cx="1080" cy="309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直線接點 80"/>
            <p:cNvSpPr/>
            <p:nvPr/>
          </p:nvSpPr>
          <p:spPr>
            <a:xfrm flipH="1">
              <a:off x="2700000" y="478692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17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upgr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ch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群組 51"/>
          <p:cNvGrpSpPr/>
          <p:nvPr/>
        </p:nvGrpSpPr>
        <p:grpSpPr>
          <a:xfrm>
            <a:off x="2124000" y="1484280"/>
            <a:ext cx="5148360" cy="4883040"/>
            <a:chOff x="2124000" y="1484280"/>
            <a:chExt cx="5148360" cy="4883040"/>
          </a:xfrm>
        </p:grpSpPr>
        <p:sp>
          <p:nvSpPr>
            <p:cNvPr id="227" name="圓角矩形 6"/>
            <p:cNvSpPr/>
            <p:nvPr/>
          </p:nvSpPr>
          <p:spPr>
            <a:xfrm>
              <a:off x="2267640" y="1520280"/>
              <a:ext cx="1260000" cy="39600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矩形 7"/>
            <p:cNvSpPr/>
            <p:nvPr/>
          </p:nvSpPr>
          <p:spPr>
            <a:xfrm>
              <a:off x="2276640" y="2132280"/>
              <a:ext cx="1260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t CTPM, delay 30m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9" name="肘形接點 9"/>
            <p:cNvCxnSpPr/>
            <p:nvPr/>
          </p:nvCxnSpPr>
          <p:spPr>
            <a:xfrm flipH="1" flipV="1">
              <a:off x="2915280" y="4580280"/>
              <a:ext cx="792720" cy="360720"/>
            </a:xfrm>
            <a:prstGeom prst="bentConnector3">
              <a:avLst>
                <a:gd name="adj1" fmla="val -71285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230" name="矩形 10"/>
            <p:cNvSpPr/>
            <p:nvPr/>
          </p:nvSpPr>
          <p:spPr>
            <a:xfrm>
              <a:off x="4716000" y="2060280"/>
              <a:ext cx="1368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data packet, delay N*50u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矩形 11"/>
            <p:cNvSpPr/>
            <p:nvPr/>
          </p:nvSpPr>
          <p:spPr>
            <a:xfrm>
              <a:off x="2267640" y="5409000"/>
              <a:ext cx="126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rase, delay 1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矩形 13"/>
            <p:cNvSpPr/>
            <p:nvPr/>
          </p:nvSpPr>
          <p:spPr>
            <a:xfrm>
              <a:off x="4788360" y="5445000"/>
              <a:ext cx="1152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ish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矩形 14"/>
            <p:cNvSpPr/>
            <p:nvPr/>
          </p:nvSpPr>
          <p:spPr>
            <a:xfrm>
              <a:off x="6156360" y="270828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直線單箭頭接點 15"/>
            <p:cNvCxnSpPr/>
            <p:nvPr/>
          </p:nvCxnSpPr>
          <p:spPr>
            <a:xfrm>
              <a:off x="2915280" y="1952280"/>
              <a:ext cx="108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直線單箭頭接點 16"/>
            <p:cNvCxnSpPr/>
            <p:nvPr/>
          </p:nvCxnSpPr>
          <p:spPr>
            <a:xfrm>
              <a:off x="2915280" y="2586600"/>
              <a:ext cx="108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直線單箭頭接點 17"/>
            <p:cNvCxnSpPr/>
            <p:nvPr/>
          </p:nvCxnSpPr>
          <p:spPr>
            <a:xfrm>
              <a:off x="2915280" y="3212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直線單箭頭接點 18"/>
            <p:cNvCxnSpPr/>
            <p:nvPr/>
          </p:nvCxnSpPr>
          <p:spPr>
            <a:xfrm>
              <a:off x="2915280" y="4436640"/>
              <a:ext cx="10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直線單箭頭接點 19"/>
            <p:cNvCxnSpPr/>
            <p:nvPr/>
          </p:nvCxnSpPr>
          <p:spPr>
            <a:xfrm>
              <a:off x="2915280" y="3860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菱形 21"/>
            <p:cNvSpPr/>
            <p:nvPr/>
          </p:nvSpPr>
          <p:spPr>
            <a:xfrm>
              <a:off x="2124000" y="4725000"/>
              <a:ext cx="1584000" cy="4320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 correct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0" name="直線單箭頭接點 22"/>
            <p:cNvCxnSpPr/>
            <p:nvPr/>
          </p:nvCxnSpPr>
          <p:spPr>
            <a:xfrm>
              <a:off x="2915280" y="5157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直線單箭頭接點 24"/>
            <p:cNvCxnSpPr/>
            <p:nvPr/>
          </p:nvCxnSpPr>
          <p:spPr>
            <a:xfrm>
              <a:off x="2915280" y="5769000"/>
              <a:ext cx="108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2" name="矩形 25"/>
            <p:cNvSpPr/>
            <p:nvPr/>
          </p:nvSpPr>
          <p:spPr>
            <a:xfrm>
              <a:off x="5391720" y="309564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矩形 26"/>
            <p:cNvSpPr/>
            <p:nvPr/>
          </p:nvSpPr>
          <p:spPr>
            <a:xfrm>
              <a:off x="5436360" y="443664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矩形 27"/>
            <p:cNvSpPr/>
            <p:nvPr/>
          </p:nvSpPr>
          <p:spPr>
            <a:xfrm>
              <a:off x="2987640" y="515700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矩形 28"/>
            <p:cNvSpPr/>
            <p:nvPr/>
          </p:nvSpPr>
          <p:spPr>
            <a:xfrm>
              <a:off x="3780000" y="472464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矩形 29"/>
            <p:cNvSpPr/>
            <p:nvPr/>
          </p:nvSpPr>
          <p:spPr>
            <a:xfrm>
              <a:off x="6156360" y="4004640"/>
              <a:ext cx="1800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直線接點 30"/>
            <p:cNvSpPr/>
            <p:nvPr/>
          </p:nvSpPr>
          <p:spPr>
            <a:xfrm flipH="1">
              <a:off x="6156360" y="420696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直線單箭頭接點 31"/>
            <p:cNvCxnSpPr/>
            <p:nvPr/>
          </p:nvCxnSpPr>
          <p:spPr>
            <a:xfrm>
              <a:off x="6705000" y="4203360"/>
              <a:ext cx="1080" cy="12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9" name="矩形 33"/>
            <p:cNvSpPr/>
            <p:nvPr/>
          </p:nvSpPr>
          <p:spPr>
            <a:xfrm>
              <a:off x="2267640" y="2780280"/>
              <a:ext cx="1260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0x55, 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ay 10u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矩形 34"/>
            <p:cNvSpPr/>
            <p:nvPr/>
          </p:nvSpPr>
          <p:spPr>
            <a:xfrm>
              <a:off x="2267640" y="3428640"/>
              <a:ext cx="1260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 0xaa,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lay 10us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矩形 36"/>
            <p:cNvSpPr/>
            <p:nvPr/>
          </p:nvSpPr>
          <p:spPr>
            <a:xfrm>
              <a:off x="2267640" y="4076640"/>
              <a:ext cx="126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 ID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橢圓 37"/>
            <p:cNvSpPr/>
            <p:nvPr/>
          </p:nvSpPr>
          <p:spPr>
            <a:xfrm>
              <a:off x="5189040" y="1484280"/>
              <a:ext cx="36000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橢圓 38"/>
            <p:cNvSpPr/>
            <p:nvPr/>
          </p:nvSpPr>
          <p:spPr>
            <a:xfrm>
              <a:off x="2730960" y="6007320"/>
              <a:ext cx="360000" cy="36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菱形 39"/>
            <p:cNvSpPr/>
            <p:nvPr/>
          </p:nvSpPr>
          <p:spPr>
            <a:xfrm>
              <a:off x="4572360" y="2708280"/>
              <a:ext cx="1584000" cy="3960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ish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矩形 40"/>
            <p:cNvSpPr/>
            <p:nvPr/>
          </p:nvSpPr>
          <p:spPr>
            <a:xfrm>
              <a:off x="4752360" y="3356640"/>
              <a:ext cx="1260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 ECC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菱形 41"/>
            <p:cNvSpPr/>
            <p:nvPr/>
          </p:nvSpPr>
          <p:spPr>
            <a:xfrm>
              <a:off x="4572000" y="3932640"/>
              <a:ext cx="1584000" cy="5400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C correct ?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矩形 42"/>
            <p:cNvSpPr/>
            <p:nvPr/>
          </p:nvSpPr>
          <p:spPr>
            <a:xfrm>
              <a:off x="4752360" y="4769640"/>
              <a:ext cx="1260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grade success &amp; reset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矩形 43"/>
            <p:cNvSpPr/>
            <p:nvPr/>
          </p:nvSpPr>
          <p:spPr>
            <a:xfrm>
              <a:off x="6156360" y="5445000"/>
              <a:ext cx="111600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grade fail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9" name="肘形接點 44"/>
            <p:cNvCxnSpPr/>
            <p:nvPr/>
          </p:nvCxnSpPr>
          <p:spPr>
            <a:xfrm flipH="1" flipV="1">
              <a:off x="5350320" y="1938240"/>
              <a:ext cx="792720" cy="972720"/>
            </a:xfrm>
            <a:prstGeom prst="bentConnector3">
              <a:avLst>
                <a:gd name="adj1" fmla="val -71285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260" name="直線單箭頭接點 45"/>
            <p:cNvCxnSpPr/>
            <p:nvPr/>
          </p:nvCxnSpPr>
          <p:spPr>
            <a:xfrm>
              <a:off x="5364000" y="1844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直線單箭頭接點 46"/>
            <p:cNvCxnSpPr/>
            <p:nvPr/>
          </p:nvCxnSpPr>
          <p:spPr>
            <a:xfrm>
              <a:off x="5364000" y="2514600"/>
              <a:ext cx="1080" cy="18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直線單箭頭接點 47"/>
            <p:cNvCxnSpPr/>
            <p:nvPr/>
          </p:nvCxnSpPr>
          <p:spPr>
            <a:xfrm>
              <a:off x="5364000" y="3113280"/>
              <a:ext cx="1080" cy="25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直線單箭頭接點 48"/>
            <p:cNvCxnSpPr/>
            <p:nvPr/>
          </p:nvCxnSpPr>
          <p:spPr>
            <a:xfrm>
              <a:off x="5364000" y="4464000"/>
              <a:ext cx="1080" cy="28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直線單箭頭接點 49"/>
            <p:cNvCxnSpPr/>
            <p:nvPr/>
          </p:nvCxnSpPr>
          <p:spPr>
            <a:xfrm>
              <a:off x="5364000" y="371664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直線單箭頭接點 50"/>
            <p:cNvCxnSpPr/>
            <p:nvPr/>
          </p:nvCxnSpPr>
          <p:spPr>
            <a:xfrm>
              <a:off x="5364000" y="522900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6840" y="1342800"/>
            <a:ext cx="7140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tart the Upgrade: Power or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5472360" cy="1800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900000" y="1773360"/>
            <a:ext cx="50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Power on to start upgrade timing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682560" y="3933720"/>
            <a:ext cx="50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2.Reset to start upgrade timing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2"/>
          <a:stretch/>
        </p:blipFill>
        <p:spPr>
          <a:xfrm>
            <a:off x="611280" y="4294080"/>
            <a:ext cx="633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I2C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525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amp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466560" y="2060640"/>
            <a:ext cx="6927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_UPGRADE_ERR_TYPE  fts_ctpm_fw_upgrade(FTS_BYTE* pbt_buf, FTS_DWRD dw_lenth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cmd_len    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reg_val[2] = {0}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i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ecc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 packet_number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 j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 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DWRD  lengh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 packet_buf[FTS_PACKET_LENGTH + 6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 auc_i2c_write_buf[10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BYTE bt_ecc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********Step 1:Reset  CTPM ****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write 0xaa to register 0xfc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register_write(0xfc,0xaa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5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write 0x55 to register 0xfc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ts_register_write(0xfc,0x55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rintk("Step 1: Reset CTPM test\n"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4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03880" y="1628640"/>
            <a:ext cx="67204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********Step 2:Enter upgrade mode ****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auc_i2c_write_buf[0] = 0x55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auc_i2c_write_buf[1] = 0xaa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2c_write_interface(I2C_CTPM_ADDRESS, auc_i2c_write_buf, 2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ntk("Step 2: Enter update mode. \n"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********Step 3:check READ-ID**********************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send the opration head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o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f(i &gt; 3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return ERR_READID;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read out the CTPM ID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md_write(0x90,0x00,0x00,0x00,4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byte_read(reg_val,2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i++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ntk("Step 3: CTPM ID,ID1 = 0x%x,ID2 = 0x%x\n",reg_val[0],reg_val[1]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}while(reg_val[0] != 0x79 || reg_val[1] != 0x03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100520" y="1268280"/>
            <a:ext cx="51062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********Step 4:erase app******************************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md_write(0x61,0x00,0x00,0x00,1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elay_ms(1500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ntk("Step 4: erase. \n"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*********Step 5:write firmware(FW) to ctpm flash*********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bt_ecc = 0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ntk("Step 5: start upgrade. \n"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w_lenth = dw_lenth - 8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number = (dw_lenth) / FTS_PACKET_LENGTH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0] = 0xbf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1] = 0x00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for (j=0;j&lt;packet_number;j++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temp = j * FTS_PACKET_LENGTH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2] = (FTS_BYTE)(temp&gt;&gt;8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3] = (FTS_BYTE)temp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lenght = FTS_PACKET_LENGTH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4] = (FTS_BYTE)(lenght&gt;&gt;8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acket_buf[5] = (FTS_BYTE)lengh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</a:rPr>
              <a:t>CTPM Interface 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3160"/>
            <a:ext cx="78598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Figure 1-1 shows how CTPM communicates with the Hos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there are two ways communicate between CTPM and Host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we will introduce each communication in this sectio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BUS: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Transfer the data via I2C/SP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/INT: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Send interrupt once there is a valid touch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3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100" spc="-1" strike="noStrike">
                <a:solidFill>
                  <a:srgbClr val="0066cc"/>
                </a:solidFill>
                <a:latin typeface="Arial"/>
              </a:rPr>
              <a:t>/WAKE:  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Host send Wakeup signal to CTPM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620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760320" y="1197000"/>
            <a:ext cx="6616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r (i=0;i&lt;FTS_PACKET_LENGTH;i++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6+i] = pbt_buf[j*FTS_PACKET_LENGTH + i]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t_ecc ^= packet_buf[6+i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yte_write(&amp;packet_buf[0],FTS_PACKET_LENGTH + 6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FTS_PACKET_LENGTH/6 + 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 ((j * FTS_PACKET_LENGTH % 1024) == 0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rintk("upgrade the 0x%x th byte.\n", ((unsigned int)j) * FTS_PACKET_LENGTH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 ((dw_lenth) % FTS_PACKET_LENGTH &gt; 0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emp = packet_number * FTS_PACKET_LENGTH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2] = (FTS_BYTE)(temp&gt;&gt;8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3] = (FTS_BYTE)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emp = (dw_lenth) % FTS_PACKET_LENGTH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4] = (FTS_BYTE)(temp&gt;&gt;8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5] = (FTS_BYTE)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r (i=0;i&lt;temp;i++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6+i] = pbt_buf[ packet_number*FTS_PACKET_LENGTH + i]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t_ecc ^= packet_buf[6+i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yte_write(&amp;packet_buf[0],temp+6);  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2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Update TP Firmware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963000" y="1339920"/>
            <a:ext cx="58150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/send the last six byt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r (i = 0; i&lt;6; i++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emp = 0x6ffa + i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2] = (FTS_BYTE)(temp&gt;&gt;8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3] = (FTS_BYTE)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emp =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4] = (FTS_BYTE)(temp&gt;&gt;8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5] = (FTS_BYTE)temp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acket_buf[6] = pbt_buf[ dw_lenth + i];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t_ecc ^= packet_buf[6]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yte_write(&amp;packet_buf[0],7);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ay_ms(2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********Step 6: read out checksum**********************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send the opration head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md_write(0xcc,0x00,0x00,0x00,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yte_read(&amp;reg_val,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rintk("Step 6:  ecc read 0x%x, new firmware 0x%x. \n", reg_val[0], bt_ec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(reg_val[0] != bt_ecc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eturn ERR_ECC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*********Step 7: reset the new FW***********************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md_write(0x07,0x00,0x00,0x00,1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eturn ERR_OK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ank you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7d"/>
                </a:solidFill>
                <a:latin typeface="Arial"/>
              </a:rPr>
              <a:t>CTPM Interface</a:t>
            </a:r>
            <a:endParaRPr b="1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0755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Power Supply voltage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8V~3.3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interface  voltage</a:t>
            </a:r>
            <a:r>
              <a:rPr b="0" lang="zh-CN" sz="2000" spc="-1" strike="noStrike">
                <a:solidFill>
                  <a:srgbClr val="0066cc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8V~3.3V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or the detail, please refer to Table 1-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7253280" cy="223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27200" y="4797360"/>
            <a:ext cx="62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cc"/>
                </a:solidFill>
                <a:latin typeface="Arial"/>
                <a:ea typeface="新細明體"/>
              </a:rPr>
              <a:t>NOTE: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新細明體"/>
              </a:rPr>
              <a:t>FT5x06 serial interface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新細明體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新細明體"/>
              </a:rPr>
              <a:t>2.8V~3.3V or  1.8V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3160"/>
            <a:ext cx="8220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Read/Write Interface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st write data to 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ost read data from s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ep1:write data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ep2:rea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518472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4038480" cy="86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971640" y="5373720"/>
            <a:ext cx="58100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3160"/>
            <a:ext cx="785988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ordinate Data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ming to get touch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044720" y="2567160"/>
            <a:ext cx="6624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42800"/>
            <a:ext cx="66358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Coordinate data registe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828720" y="1917720"/>
            <a:ext cx="71676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343160"/>
            <a:ext cx="82915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EST_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828720" y="1917720"/>
            <a:ext cx="74167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Arial"/>
              </a:rPr>
              <a:t>IIC Standard</a:t>
            </a:r>
            <a:r>
              <a:rPr b="1" lang="zh-CN" sz="4400" spc="-1" strike="noStrike">
                <a:solidFill>
                  <a:srgbClr val="00007d"/>
                </a:solidFill>
                <a:latin typeface="Arial"/>
              </a:rPr>
              <a:t> Potocol</a:t>
            </a:r>
            <a:endParaRPr b="1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D_STATU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UCH EVEN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044720" y="2062080"/>
            <a:ext cx="6912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09:30Z</dcterms:created>
  <dc:creator>Admin</dc:creator>
  <dc:description/>
  <dc:language>en-US</dc:language>
  <cp:lastModifiedBy>PC</cp:lastModifiedBy>
  <cp:lastPrinted>1899-12-30T00:00:00Z</cp:lastPrinted>
  <dcterms:modified xsi:type="dcterms:W3CDTF">2015-09-04T16:14:22Z</dcterms:modified>
  <cp:revision>184</cp:revision>
  <dc:subject/>
  <dc:title>IF Demodulator Design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55</vt:lpwstr>
  </property>
</Properties>
</file>